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F95-BD6D-4FF1-B7A8-8DF6C050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CD9-D8C9-400F-A610-3F486BB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64E-D76D-4EB4-9600-80C47B6B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421-F58B-42C5-A6F1-F8F27A3D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670-56FD-43C7-B14E-153EA7E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4E0-7187-4EA2-AF8F-6454955F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921-BC53-41E8-9D0D-90EF5B46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6E3-D67B-44AC-8848-C9A31CBE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C8A-B75D-4BA7-9CB1-26966CB6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229-0963-44F3-96F6-2E6FD22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5F7-F9B1-48EB-AD72-AEBD83B4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A8E-7008-457B-8B98-151D462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E0C-7E4A-42F2-BE0C-6C6D8E952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75 million subscribers per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1447920"/>
            <a:ext cx="6324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value of r so that the line that passes through each pair of points has the given slo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4, r) (r, 2) m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95880" y="3962520"/>
                <a:ext cx="73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lope of the line that passes through (a, b) and (a, -b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direct variation equ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k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6668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nstant of variation in the following equ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-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 = 8 when x = 4, find y when x =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2x,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 = 6 when x =    , find x when y = 1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334120" y="2438280"/>
                <a:ext cx="353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9x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334120" y="2514600"/>
                <a:ext cx="576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14300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 direct variation equation that relates the variables in the follow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na coffee beans are $14.49 per pound.  The total cost of p pounds is 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14.49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05740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lope and y-intercept of the follow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4x –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 = 4, b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the line whose slope is 3 and y-intercept is -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3x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13372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lope and y-intercept of the follow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x + 3y =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Mr. Shaw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 =     , b = 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62520" y="2438280"/>
                <a:ext cx="688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a horizontal line that crosses the y-axis at (0, -5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a line that passes through the origin with slope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the line that passes through (1, 5) with slope 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2x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1905120"/>
            <a:ext cx="6324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the line that passes through the given point with the given slo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5, -2) m =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3x –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rect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y = mx +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1430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riting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066680"/>
            <a:ext cx="14479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arallel or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rpend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22096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equation of the line that passes through the given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, -2) (6,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2x – 8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1447920"/>
            <a:ext cx="6324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the line that has each pair of intercep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-intercept: 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-intercept: 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   x +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191120" y="2590920"/>
                <a:ext cx="3506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equation of the line that passes through the given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    , 1) (   ,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34120" y="4800600"/>
                <a:ext cx="323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352680" y="4800600"/>
                <a:ext cx="54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724280" y="4800600"/>
                <a:ext cx="54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    x +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267080" y="2514600"/>
                <a:ext cx="639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562720" y="2514600"/>
                <a:ext cx="511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6765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slope-intercept form of an equation for the line that passes through        (-1, -2) and is parallel to the graph of y = -3x – 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-3x –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19810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slope-intercept form of a line that passes through (1, -3) and is perpendicular to the graph of y =   x + 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038480" y="4343400"/>
                <a:ext cx="443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-2x –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slope of the line that passes through the pair of points:  (-4, -1) (-3, -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2860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slope intercept form of a line that passes through (0, 4) and is perpendicular to the graph of 3x + 8y = 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  x +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114800" y="2438280"/>
                <a:ext cx="4586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slope-intercept form of a line that passes through (2, 2) and is parallel to the graph of 3x – 4y = -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  x +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343400" y="2590920"/>
                <a:ext cx="384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410080" y="2590920"/>
                <a:ext cx="384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1676520"/>
            <a:ext cx="6324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the graphs of the two equations perpendicular, parallel or nei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y = 2x +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x – 3y =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all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666880"/>
            <a:ext cx="6324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lve the equation with the given dom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x –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{-4, -2, 0, 2, 4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{(-4, -13), (-2, -11), (0, -9), (2, -7), (4, -5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next 3 terms in the arithmetic sequ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3, -11, -19, -27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35, -43, -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f(x) =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x + 1, find g(-1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following arithmetic sequence, find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e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, 11, 14, 17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nly straight line that is not a function i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rt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[s + 3(s – 1)] =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209680"/>
            <a:ext cx="6324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value of r so the line that passes through each pair of points has the given slo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6, 2) (9, r) m=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6765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990 there were 52 million cable subscribers in the US.  In 1998, there were 66 million.  What was the rate of cha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North Pitt High School</cp:lastModifiedBy>
  <dcterms:modified xsi:type="dcterms:W3CDTF">2008-03-03T16:21:15Z</dcterms:modified>
  <cp:revision>69</cp:revision>
  <dc:subject/>
  <dc:title>No Slide Title</dc:title>
</cp:coreProperties>
</file>